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6EF-1D06-4DB5-863F-54AFCA35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C4B-5FCA-4322-A466-0E6E532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8EA-0280-4F3F-AF9B-CFAFEB87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753-C90B-4405-8855-2679FE25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69A-2767-4549-B4AC-B6CE39E7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78E-B380-4835-BB98-25B1201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1E8-046D-487D-9F1C-D5B8D36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F18-3A56-4CE5-8E0F-02845E4C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923-A707-408D-868D-B9237AA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D65-1C1B-4445-B86D-34B3DC5E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215-85F8-4564-B303-2D4039D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722-D5F4-4C90-A07E-E130398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525F-FAF9-46EF-872D-1D10A5B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2E0-014A-4B00-9EC2-AC2A913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F746-BCA5-4AEC-A2D7-8AB70B8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FEBA-8A7F-411D-AFB8-6C478206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1EA-FDBF-416E-AECC-525FD5E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FA8-7AF2-4188-A0E4-2C15764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F17-CB59-4F44-A645-BE6E825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ED9-224B-4A5C-AAFB-AB54491F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844-4375-4D81-A69F-804B7EE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125-9BF7-43C3-A971-5CAD5A9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4B3-7A49-4C57-B70C-DEC8EC4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1E6-0828-4A93-8024-8943CF4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7C6E-513F-4B35-A563-CBF4879255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E26-9EF9-4536-A32C-BDD7C214A0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avannah McLaugh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eft brain dominate, that means I like to work with things that can be seen or tou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visual learner, that means I learn best by reading, watching, viewing information in print, and pictures or graph. I am also tactile/kinesthetic, that means I also learn best by doing, constructing a project, building or writing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lso concrete sequential, that means I tend to be strongly left brain dom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lso a right brain. That means my right brain is very active. I have a lot of imag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learn how your brain works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long-term assignment, if I am stuck, use the information to help you get through problems you need help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help but cant get 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31:27Z</dcterms:created>
  <dc:creator>student</dc:creator>
  <dc:description/>
  <dc:language>en-US</dc:language>
  <cp:lastModifiedBy>student</cp:lastModifiedBy>
  <dcterms:modified xsi:type="dcterms:W3CDTF">2010-11-17T16:58:59Z</dcterms:modified>
  <cp:revision>4</cp:revision>
  <dc:subject/>
  <dc:title>My Personal Learning Profile</dc:title>
</cp:coreProperties>
</file>